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B4F0-25D4-4C2D-9A9B-37F93169D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977D-85DF-4E4E-B4F1-848A597DF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D9A-FDF4-458E-BE91-E38EB7A8CB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EAC3-21FC-4A1E-80EA-3FFDCECEB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E33-3E9F-4543-AF7A-FDE2F4A9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81C-98AC-464E-9C57-139ED01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293EF-7E3F-4612-9BEF-F2E1A58F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208EB-48B4-47A7-840E-9D9D765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0C408-FF55-4B2A-BDC8-D9D169A2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42CEA-D93E-47FB-90CC-B0122051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28475-F186-4F9E-A727-02FE3AD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930EB-0018-4BB0-973E-DAA5E34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2073-3E78-4ECB-AB73-E1FB5DF3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24ED-C747-4865-8523-8E9A9E40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0941D-4CD3-4999-97AF-96D63644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5DD7F-05B5-4476-B417-7B44C3A6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4B4-C2E3-4AC1-B237-8F9DC903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A43FF-53BA-4C57-A30A-1B9F7B5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B506B-D821-4283-9A61-F7A3D40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3C7E0-D5F0-4F27-9713-72396DEA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35B6F-B36D-41B2-9B7F-9A5DD96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898B9-7C5A-40B6-B550-7C8BBCD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A7665-F6D2-4BBB-90A7-8902FF2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1F35F-27CF-4BEC-AE49-18C3E08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94CCF-4024-42E0-9881-4941CE7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A431F-15E2-46DD-AA60-2DB7AD1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CA8D8-21B1-4840-A5C9-78D6FE55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F04-30F3-4F81-8CB1-2A620F1C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2E697-8A20-4714-9A7A-B054DD38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F2CFA-33CB-4C19-B486-86166361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E908-8705-4F79-8796-44FAB7C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E5ADD-9E15-4E31-8FA6-812866EF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1FA60-2D79-4E00-861A-1320A6B3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3A113-D88D-41AB-9E6B-BF799E17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F137-8A88-4FCC-9631-36A84017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0C537-F707-47D6-B275-7D84975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DC4CF-DB66-4FE5-BAE7-E3866FB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913A6-65B4-4803-8502-9DD9D99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6255-8650-4224-9DEB-1BE6E5FB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B1BF-758C-42E4-B49A-913ED604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A113-5AF9-4757-9A31-BAF869CA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3E68-9E31-43B7-8C74-323A7CAF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311CB-1349-4097-9F9E-3A168996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9E289-4899-4193-8422-DD488789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E7DF8-0DC6-4F7B-BC62-97C7624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5981E-E1AD-441A-99D4-9619DEC5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4819-BB8F-4B16-8C1F-2704006E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344D2-EDDE-43C1-A425-EC01062B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D834F-C605-4E7B-B4F8-E739C1C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4F41-8DBB-4186-8CB6-4DB651C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02F1F-4052-43CC-B2C3-8E240B2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654D1-2EF7-4178-8872-0845309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47C63-9270-4FD4-A5D4-69E7D92C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567A2-0C9D-4DD5-9346-FFEA80A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ECC4D-4B0A-4023-848E-D3FA5D8F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02FA-3A55-4242-9CD0-F172385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58DA-B3D6-428E-8188-ECA01D6E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7A5B-CA48-43D6-9FC7-217FB88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5F59-EB44-4A6C-83FA-16D76E81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8556-0417-4191-A516-2F394B0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492-F17D-4906-9DD5-8A6C18F9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3F5E-7D6B-47A2-92AE-A7376816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5B8-B489-4CA6-B86B-761CAFC3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54DA-EC31-4BF0-98CB-F77203E7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F30B-99B7-41E3-B6B9-BC8DF861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ADBD-854F-4340-A67B-F36E31E2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FCD6-6ECA-4B03-92DA-28770051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9C6E-1603-4D08-9056-F435060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F7F4-25FA-4C5F-8D30-AA00A7F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CA07-7BAD-4FAA-9202-E5BC549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F68A-F27F-461D-ADA2-DB89D41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CCC-297B-465D-9989-114BF14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F958-CCAA-4374-9639-B3D9076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6662-4AC9-4993-9659-DC5A709D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2895-A8AD-43F4-BDF2-8856D92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FF90-8617-4F05-9EA1-DF594D7C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70DF-B0E0-469B-A4A0-99D98E5B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977C-019B-4CD8-83E4-0CA1FB19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9382-F375-4923-BAA6-EFC60CAE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102F-38B8-4536-85CF-D5C870BF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B96F-5D3C-42F5-9CC3-00110AD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669E-5AA8-4836-9D5C-3265C109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32B-0B0E-4DFC-B87E-5D41CC27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4054-92CC-42E0-843D-228DB1EF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B851-DFCC-49BC-B388-1C0A4E1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BB41-1F5A-4DA8-8499-516C892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8824-305D-4DA0-B840-AE07A39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D0A0-9FD3-45F5-8F87-67550DA0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1EA6-9985-4A6B-BAC8-130527FE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D48B-5CDD-4BC1-B1D7-64E321EE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55C0-47E0-4734-B71E-30F81505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5E24-F57E-4BD0-B4DE-7FE46AD1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EF3A-DFDC-447E-A953-5894FDFC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9B2-EA20-4F8E-90C6-5ADD6B6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CBC6-6580-4A30-AE84-70C5C01B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05A7-F9EB-4EBC-A5C0-4B6D5024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507B5-FEFB-4A06-8A7C-C1684B54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0B12-06E6-4BA4-870D-952DF5BD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7388B-6EA1-42E8-928B-48A9CE7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C69B-05AD-4EB2-B87F-D8F0014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05BC-E72E-4C0D-9DA7-32EFD5A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0D35-95A0-4D2A-B61A-6E706CF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F978-8C05-4EB7-A5C5-15F59B51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A8BF-A3D0-4304-809B-D19B7933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6B6-327B-45F3-8949-886ED1D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3262-9230-44DB-942A-8AEF2FBF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8249-BE3B-493E-B835-C815E6E6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1E60-231B-4767-8A99-FC3B732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8E51-4D49-4497-ADA1-A0172D6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5B66-8C67-42CC-8464-2AE642A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BE0B1-0E5C-4C17-9F88-447D91BC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88A9D-4C83-4054-87D8-872F4D74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BE46-B3E7-4AC7-8521-C82AD1C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6680F-E8FB-4D26-BFA1-26E78C4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A37C-E78D-4574-B701-AFD7ECB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24D-37E1-4D4A-86B6-877CCAE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521D-691F-4728-AB5A-A1143639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F85E-6134-4482-A0A6-E3C7F6BA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2C41-8DB3-401C-9F0B-B7F4B1CA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A5D5-EEDF-4F28-B8BA-3BBACFF9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589D2-29CB-45F9-95F0-FAE5E2EB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2AEE7-C5A8-4BE3-B7FE-8E90611B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EAD7A-819D-407A-8F22-C8D7E7A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9A82-BF09-4371-88E6-534B8BE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6004-BE0F-4C3B-8BD0-A9583FE9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64673-5199-4F7D-A38C-B4DC14E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16B-0931-4451-8DD8-CE3C2CC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58D8-C396-4025-90B1-FEE6391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73BBD-B1F4-40BB-8CD1-6F21E92B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9C553-6B8A-4AA2-AC2A-D1161124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6077-D648-4D9E-9C8C-A97BED41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1BEA7-2012-43FC-BE64-692F62FE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1B20C-BF1B-4C3E-9D96-00765ACA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A885E-5D91-4F4E-8487-310D278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8E2F5-A1E6-42E9-936A-B6AB19FA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98CDC-4046-4453-A500-BB79A75C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ADBA9-F121-419E-B773-5D847F5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8DF-92C1-4722-AA88-A02EEB0C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C0656-580A-494F-B3EB-DAA1567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70D7-2000-4D85-A40B-D06CDCE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F3A6C-EBB4-4325-A1F8-D7441CB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5651-7868-4608-A337-2B87382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8064-C380-42FB-AE07-1577E31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C98AD-C727-4D1F-A1D8-CFF567FB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5D4C-E38A-4FA3-AC7A-940A3C59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FDE5B-1334-487F-BA23-11F9BB46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49B7F-3598-4EB3-B825-FD4FD068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10A19-310E-496A-988E-E936E27D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1457-476E-498F-8574-FBD329732A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1D8F-0DF1-41E1-B552-614C94599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255-A49B-40CE-A833-A281D4027B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804-E042-4AA3-B643-16103CCA3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B4B-E89C-4B57-875E-0C9030C5C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B0A2-77E0-4DA3-BD41-7A7F1722D3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3D3-EF63-4CAB-B300-28A2BE9D09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09E4-7978-4CDB-91D5-FB3C983DCA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EB7-FFBC-4D11-8D41-B6EE42B46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312-3BB0-4DCE-B06B-5853D384A0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A668-AFF4-4FFE-B763-CE1C5C10FA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5EB-02F3-48F4-953A-D74990DF5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7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1" descr=""/>
          <p:cNvPicPr/>
          <p:nvPr/>
        </p:nvPicPr>
        <p:blipFill>
          <a:blip r:embed="rId1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d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632800" cy="15858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si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Picture 5" descr="C:\Documents and Settings\ISLPT175\My Documents\My Pictures\oasis.bmp"/>
          <p:cNvPicPr/>
          <p:nvPr/>
        </p:nvPicPr>
        <p:blipFill>
          <a:blip r:embed="rId2"/>
          <a:stretch/>
        </p:blipFill>
        <p:spPr>
          <a:xfrm>
            <a:off x="822240" y="2743200"/>
            <a:ext cx="423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05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5" descr="C:\Documents and Settings\ISLPT175\My Documents\My Pictures\mountain range.bmp"/>
          <p:cNvPicPr/>
          <p:nvPr/>
        </p:nvPicPr>
        <p:blipFill>
          <a:blip r:embed="rId2"/>
          <a:stretch/>
        </p:blipFill>
        <p:spPr>
          <a:xfrm>
            <a:off x="457200" y="1523880"/>
            <a:ext cx="5824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1920" y="6858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is the difference between a  PLAIN and a MOUNTAIN RAN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61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10"/>
          <p:cNvSpPr/>
          <p:nvPr/>
        </p:nvSpPr>
        <p:spPr>
          <a:xfrm>
            <a:off x="304920" y="2133720"/>
            <a:ext cx="121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lain  is flat land, but a mountain range is bumpy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Box 12"/>
          <p:cNvSpPr/>
          <p:nvPr/>
        </p:nvSpPr>
        <p:spPr>
          <a:xfrm>
            <a:off x="1905120" y="4648320"/>
            <a:ext cx="7238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11" descr="C:\Documents and Settings\ISLPT175\My Documents\My Pictures\mountain range.bmp"/>
          <p:cNvPicPr/>
          <p:nvPr/>
        </p:nvPicPr>
        <p:blipFill>
          <a:blip r:embed="rId2"/>
          <a:stretch/>
        </p:blipFill>
        <p:spPr>
          <a:xfrm>
            <a:off x="1752480" y="3809880"/>
            <a:ext cx="2467080" cy="1847880"/>
          </a:xfrm>
          <a:prstGeom prst="rect">
            <a:avLst/>
          </a:prstGeom>
          <a:ln w="0">
            <a:noFill/>
          </a:ln>
        </p:spPr>
      </p:pic>
      <p:cxnSp>
        <p:nvCxnSpPr>
          <p:cNvPr id="565" name="Straight Arrow Connector 14"/>
          <p:cNvCxnSpPr/>
          <p:nvPr/>
        </p:nvCxnSpPr>
        <p:spPr>
          <a:xfrm>
            <a:off x="4266720" y="4191120"/>
            <a:ext cx="221076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headEnd len="med" type="arrow" w="med"/>
            <a:tailEnd len="med" type="arrow" w="med"/>
          </a:ln>
        </p:spPr>
      </p:cxnSp>
      <p:pic>
        <p:nvPicPr>
          <p:cNvPr id="566" name="Picture 12" descr="C:\Documents and Settings\ISLPT175\My Documents\My Pictures\14443092.jpg"/>
          <p:cNvPicPr/>
          <p:nvPr/>
        </p:nvPicPr>
        <p:blipFill>
          <a:blip r:embed="rId3"/>
          <a:stretch/>
        </p:blipFill>
        <p:spPr>
          <a:xfrm>
            <a:off x="5881680" y="3657600"/>
            <a:ext cx="2805120" cy="1868400"/>
          </a:xfrm>
          <a:prstGeom prst="rect">
            <a:avLst/>
          </a:prstGeom>
          <a:ln w="0">
            <a:noFill/>
          </a:ln>
        </p:spPr>
      </p:pic>
      <p:cxnSp>
        <p:nvCxnSpPr>
          <p:cNvPr id="567" name="Straight Arrow Connector 18"/>
          <p:cNvCxnSpPr/>
          <p:nvPr/>
        </p:nvCxnSpPr>
        <p:spPr>
          <a:xfrm flipV="1">
            <a:off x="4267080" y="4876200"/>
            <a:ext cx="1524960" cy="76680"/>
          </a:xfrm>
          <a:prstGeom prst="straightConnector1">
            <a:avLst/>
          </a:prstGeom>
          <a:ln w="9360">
            <a:solidFill>
              <a:srgbClr val="2da2b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is the difference between  a   plateau , Mesa, Butte …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9"/>
          <p:cNvSpPr/>
          <p:nvPr/>
        </p:nvSpPr>
        <p:spPr>
          <a:xfrm>
            <a:off x="838080" y="25909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teau is bigger Than A Mesa AND  a Mesa is bigger than a But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Picture 5" descr="C:\Documents and Settings\ISLPT175\My Documents\My Pictures\plateau.bmp"/>
          <p:cNvPicPr/>
          <p:nvPr/>
        </p:nvPicPr>
        <p:blipFill>
          <a:blip r:embed="rId2"/>
          <a:stretch/>
        </p:blipFill>
        <p:spPr>
          <a:xfrm>
            <a:off x="3048120" y="3683160"/>
            <a:ext cx="3657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is the Difference Between a DESSERT and a OASIS 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3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838080" y="25909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Oasis is a place In  the dessert were its fertile and has water  A dessert  is dry…….&lt;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5" descr="C:\Documents and Settings\ISLPT175\My Documents\My Pictures\oasis.bmp"/>
          <p:cNvPicPr/>
          <p:nvPr/>
        </p:nvPicPr>
        <p:blipFill>
          <a:blip r:embed="rId2"/>
          <a:stretch/>
        </p:blipFill>
        <p:spPr>
          <a:xfrm>
            <a:off x="152280" y="4038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C:\Documents and Settings\ISLPT175\My Documents\My Pictures\dessert.jpg"/>
          <p:cNvPicPr/>
          <p:nvPr/>
        </p:nvPicPr>
        <p:blipFill>
          <a:blip r:embed="rId3"/>
          <a:stretch/>
        </p:blipFill>
        <p:spPr>
          <a:xfrm>
            <a:off x="5715000" y="3581280"/>
            <a:ext cx="2590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le 3" descr=""/>
          <p:cNvPicPr/>
          <p:nvPr/>
        </p:nvPicPr>
        <p:blipFill>
          <a:blip r:embed="rId1"/>
          <a:stretch/>
        </p:blipFill>
        <p:spPr>
          <a:xfrm>
            <a:off x="682560" y="96840"/>
            <a:ext cx="8010720" cy="15858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6"/>
          <p:cNvSpPr/>
          <p:nvPr/>
        </p:nvSpPr>
        <p:spPr>
          <a:xfrm>
            <a:off x="662940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64008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f5fa"/>
                </a:solidFill>
                <a:latin typeface="Times New Roman"/>
              </a:rPr>
              <a:t>Pl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5" descr="C:\Documents and Settings\ISLPT175\My Documents\My Pictures\14443092.jpg"/>
          <p:cNvPicPr/>
          <p:nvPr/>
        </p:nvPicPr>
        <p:blipFill>
          <a:blip r:embed="rId2"/>
          <a:stretch/>
        </p:blipFill>
        <p:spPr>
          <a:xfrm>
            <a:off x="762120" y="2289240"/>
            <a:ext cx="6476760" cy="43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3" descr=""/>
          <p:cNvPicPr/>
          <p:nvPr/>
        </p:nvPicPr>
        <p:blipFill>
          <a:blip r:embed="rId1"/>
          <a:stretch/>
        </p:blipFill>
        <p:spPr>
          <a:xfrm>
            <a:off x="530280" y="353880"/>
            <a:ext cx="8010360" cy="19083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6"/>
          <p:cNvSpPr/>
          <p:nvPr/>
        </p:nvSpPr>
        <p:spPr>
          <a:xfrm>
            <a:off x="60958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5" descr="C:\Documents and Settings\ISLPT175\My Documents\My Pictures\pic_721.jpg"/>
          <p:cNvPicPr/>
          <p:nvPr/>
        </p:nvPicPr>
        <p:blipFill>
          <a:blip r:embed="rId2"/>
          <a:stretch/>
        </p:blipFill>
        <p:spPr>
          <a:xfrm>
            <a:off x="838080" y="2971800"/>
            <a:ext cx="39927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53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Picture 5" descr="C:\Documents and Settings\ISLPT175\My Documents\My Pictures\source.bmp"/>
          <p:cNvPicPr/>
          <p:nvPr/>
        </p:nvPicPr>
        <p:blipFill>
          <a:blip r:embed="rId2"/>
          <a:stretch/>
        </p:blipFill>
        <p:spPr>
          <a:xfrm>
            <a:off x="228600" y="2362320"/>
            <a:ext cx="6248520" cy="3821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Title 3" descr=""/>
          <p:cNvPicPr/>
          <p:nvPr/>
        </p:nvPicPr>
        <p:blipFill>
          <a:blip r:embed="rId1"/>
          <a:stretch/>
        </p:blipFill>
        <p:spPr>
          <a:xfrm>
            <a:off x="298440" y="-182520"/>
            <a:ext cx="8656560" cy="19080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6705720" y="3429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icture 5" descr="C:\Documents and Settings\ISLPT175\My Documents\My Pictures\volcano.jpg"/>
          <p:cNvPicPr/>
          <p:nvPr/>
        </p:nvPicPr>
        <p:blipFill>
          <a:blip r:embed="rId2"/>
          <a:stretch/>
        </p:blipFill>
        <p:spPr>
          <a:xfrm>
            <a:off x="457200" y="1600200"/>
            <a:ext cx="3981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a1f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91404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aste image </a:t>
            </a:r>
            <a:r>
              <a:rPr b="0" lang="en-US" sz="2800" spc="-1" strike="noStrike">
                <a:solidFill>
                  <a:srgbClr val="002060"/>
                </a:solidFill>
                <a:latin typeface="Lucida Sans Unicode"/>
              </a:rPr>
              <a:t>her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39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rapezoid 5"/>
          <p:cNvSpPr/>
          <p:nvPr/>
        </p:nvSpPr>
        <p:spPr>
          <a:xfrm>
            <a:off x="0" y="2819520"/>
            <a:ext cx="3505320" cy="388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rapezoid 7"/>
          <p:cNvSpPr/>
          <p:nvPr/>
        </p:nvSpPr>
        <p:spPr>
          <a:xfrm>
            <a:off x="3429000" y="3352680"/>
            <a:ext cx="2819520" cy="32004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rapezoid 8"/>
          <p:cNvSpPr/>
          <p:nvPr/>
        </p:nvSpPr>
        <p:spPr>
          <a:xfrm>
            <a:off x="6477120" y="4648320"/>
            <a:ext cx="2514600" cy="19810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228600" y="1522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flat, low-lying land built up from soil carried downstream by a river and deposited at its mouth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Picture 8" descr="C:\Documents and Settings\ISLPT175\My Documents\My Pictures\pdelta.bmp"/>
          <p:cNvPicPr/>
          <p:nvPr/>
        </p:nvPicPr>
        <p:blipFill>
          <a:blip r:embed="rId2"/>
          <a:stretch/>
        </p:blipFill>
        <p:spPr>
          <a:xfrm>
            <a:off x="990720" y="2438280"/>
            <a:ext cx="27432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c60a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5"/>
          <p:cNvSpPr/>
          <p:nvPr/>
        </p:nvSpPr>
        <p:spPr>
          <a:xfrm>
            <a:off x="7243560" y="37339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c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Picture 5" descr="C:\Documents and Settings\ISLPT175\My Documents\My Pictures\glacier.bmp"/>
          <p:cNvPicPr/>
          <p:nvPr/>
        </p:nvPicPr>
        <p:blipFill>
          <a:blip r:embed="rId2"/>
          <a:stretch/>
        </p:blipFill>
        <p:spPr>
          <a:xfrm>
            <a:off x="609480" y="3124080"/>
            <a:ext cx="305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le 3" descr=""/>
          <p:cNvPicPr/>
          <p:nvPr/>
        </p:nvPicPr>
        <p:blipFill>
          <a:blip r:embed="rId1"/>
          <a:stretch/>
        </p:blipFill>
        <p:spPr>
          <a:xfrm>
            <a:off x="73080" y="176040"/>
            <a:ext cx="8010360" cy="15861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Picture 5" descr="C:\Documents and Settings\ISLPT175\My Documents\My Pictures\dessert.jpg"/>
          <p:cNvPicPr/>
          <p:nvPr/>
        </p:nvPicPr>
        <p:blipFill>
          <a:blip r:embed="rId2"/>
          <a:stretch/>
        </p:blipFill>
        <p:spPr>
          <a:xfrm>
            <a:off x="304920" y="1828800"/>
            <a:ext cx="36576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24:43Z</dcterms:modified>
  <cp:revision>48</cp:revision>
  <dc:subject/>
  <dc:title>PowerPoint Presentation</dc:title>
</cp:coreProperties>
</file>